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534-9A87-4654-8D9C-AAEDA3A1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AF4-7216-4D9A-A98C-268C2DED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E47-1494-457C-A66E-45CC9BB6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0BC-E797-4BEB-A28B-BDBDBA0F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1C2-3B3B-42F3-AA2B-8A371ED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CEE-CAD9-4CAC-A06E-D58E8CCB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665-3AF9-41A2-8733-368A005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2E9-A7DA-4AEA-87F7-B9BEC59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ED0-8B2E-4610-9753-074B8A3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9E3-DC6F-4C3F-A802-B9DA85E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9A3-6059-4A37-A560-469AE4A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6E6-02FC-4FE7-BACA-6AB7396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67FE-69C8-4914-A375-69DF7E02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e old black bear couldn’t run very fast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My mother drives a big truck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My father got a blue shirt from my mother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e bear went straight to the big tree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Kent couldn’t stop himself as he coasted down the hill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 love spring when the flowers bloom and look fresh and perfec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It wasn’t my dad’s fault that he couldn’t start to build my tree house that day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Arial"/>
              </a:rPr>
              <a:t>My mother kept all my drawings from first grade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r father has my grandfather’s old belt tied around his wais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o get to Big Bear Camp, head straight down Spring Street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love to ride over the bump on that bridg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Let’s build a tree house near the nest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My mother told me to drink my milk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Does your father have flowers in the yard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rot straight down that street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He couldn’t write with the blue ink.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om loves to swim and jump in the water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Brad will help build a green doghous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 </cp:lastModifiedBy>
  <dcterms:modified xsi:type="dcterms:W3CDTF">2007-05-07T01:39:21Z</dcterms:modified>
  <cp:revision>22</cp:revision>
  <dc:subject/>
  <dc:title>He is always happy.</dc:title>
</cp:coreProperties>
</file>